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579-E0A4-473D-865E-475B61F87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EC38-718A-4CDA-B9E2-725A6049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C985-2030-4FBC-B784-AFFB88FA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9AE-F1D9-4B3C-A51A-F3B11C40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5927-4FC3-4281-88CD-C1850D4FA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5F4-882E-42D7-B6E4-13FB8B00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996B-6288-4A6D-8DE9-ADE47DE7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722-4255-4E33-B2C1-999022CA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1D4-08A9-451E-9573-B163F8D0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CDD-A904-4372-B7D3-6548B83B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DBB-A9BD-4699-8BE0-3FC842A6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F352-8BC8-4FEA-8218-8418583D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045F-4D1D-4EE6-A670-BC5AB1EDB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60160" y="624852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A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ervise Reassignm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79840" y="3108240"/>
            <a:ext cx="279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</a:rPr>
              <a:t>Supervise Reassignment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View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TION:  Supervise Reassignment Proces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ITIONS:  Given a requirement to supervise the reassignment process, AR 600-8-11, AR 614-200, and MILPER Memorandum 95-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ANDAR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 Conducted an overview of the Enlisted Personnel Assignment System (ED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 Managed the processing of an EDAS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 Managed requests for deletion and defer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OS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US to OCUNUS and CONUS to CO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EPORT DAT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DY REPORT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(LEAV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(LEA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LIAN DAT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LIAN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(TRAVEL TIME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-(TRAVEL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LIAN DAT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JULIAN D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NTICIPATED  DATE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“DLOS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LOS 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ONUS to CONUS and OCONUS to OCO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EROS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(LEA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ULIAN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(TRAVEL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ULIAN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+(TDY TRAVEL TI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7400" indent="16596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ULIAN REPORT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7T18:13:26Z</dcterms:created>
  <dc:creator>ADG</dc:creator>
  <dc:description/>
  <dc:language>en-US</dc:language>
  <cp:lastModifiedBy>Administrator</cp:lastModifiedBy>
  <cp:lastPrinted>1998-06-04T15:42:32Z</cp:lastPrinted>
  <dcterms:modified xsi:type="dcterms:W3CDTF">2005-07-08T12:32:22Z</dcterms:modified>
  <cp:revision>4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A\CCA5H1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